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0965D-D938-4FBC-9B38-759883D7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3F10-FD81-4CC4-B724-8B2DECE9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E3EB-98D7-42A8-8473-866A779B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FDAC-FA92-4BF3-816F-68BC33D9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AE81-9F5B-4F32-ABD1-E8936CA3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E99-E2E3-42F8-A646-9770C3C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880-91E7-43E5-98C8-4A530195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E6A6-9515-4FE2-A86D-C9393413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E4F-B093-4CB2-ACF0-ECD86F6D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53AF-92DC-4E21-86B9-AEA78E2A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B10-2C92-4A12-B0EC-51AF317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DD2A-B369-474E-8115-483CA54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595-2D1D-4347-AC38-4AE3689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41D1-5C11-4CA0-B1E0-F1C97697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AD4-5049-4A40-9D94-F852ABBE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869F-A408-4484-897A-0B31087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67C4-A3F2-4A94-A880-482E3E3D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0FDAF-603E-46D7-A7FE-7D37CA2D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3C79-2D3A-4392-884A-9027A21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2C58-30EA-4294-832A-3DC433F6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0DAB-12BC-4EFF-958B-7181081B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FC50-EEEB-42DC-947D-F12B691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FC4A-B119-4C14-8E67-B3EB49A5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5C4E-40AE-4B00-A9BD-6D8EF24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B85B-626B-42E5-80A9-278E74C66D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B82-D7E6-4026-B5FF-8F51C659F9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блемы науковед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На примере археолог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олюшкин Ю.П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ПНТБ СО РА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4. Группировочный анализ временных периодов Иркутской археологической школы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1 - 1921 - 1920; 2 - 1931 - 1940; 3 - 1941 - 1950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4 - 1951 - 1960; 5 - 1961 - 1970; 6 - 1971 - 198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Object 10"/>
          <p:cNvGraphicFramePr/>
          <p:nvPr/>
        </p:nvGraphicFramePr>
        <p:xfrm>
          <a:off x="539640" y="2158920"/>
          <a:ext cx="792000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58920"/>
                    <a:ext cx="792000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блица 6. Оценочное и справочное цитировани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924280"/>
          <a:ext cx="8229600" cy="1081080"/>
        </p:xfrm>
        <a:graphic>
          <a:graphicData uri="http://schemas.openxmlformats.org/drawingml/2006/table">
            <a:tbl>
              <a:tblPr/>
              <a:tblGrid>
                <a:gridCol w="2025720"/>
                <a:gridCol w="2120760"/>
                <a:gridCol w="2121120"/>
                <a:gridCol w="1962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ктора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ндидаты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остранные уче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право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4,1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,4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6,6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Оценочн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5. Группировка авторов по типам цитирования [Деревянко, Холюшкин, 1994: 30]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Рисунок 3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2160" cy="180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468360" y="3357720"/>
          <a:ext cx="8291520" cy="278100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 З.А. Абрам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 М.В.Анико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 Л.Бинфор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 Ф. Бор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. П.И.Борисков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 М.В.Воевод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. М.Е.Ворон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 В.А.Город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. В.И. Гро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. Г.П. Григорь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.М.Д. Джураку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. П.П. Ефимен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. С.Н. Замятн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 Г.Ф. Коробк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. В.Е. Ларич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. Д.Н. Л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. В.П. Люб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. Г.И. Медвед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. Ю.А. Моч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. А.П. Окладни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1. В.А. Р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. А.Н. Рогаче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3. Р.Х. Сулейман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. Н.Г. Харла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5. Ю.П. Холюшк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. В.А. Шу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7. Частота взаимоцитирован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«новых археологов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0920" y="981000"/>
          <a:ext cx="8435880" cy="5654880"/>
        </p:xfrm>
        <a:graphic>
          <a:graphicData uri="http://schemas.openxmlformats.org/drawingml/2006/table">
            <a:tbl>
              <a:tblPr/>
              <a:tblGrid>
                <a:gridCol w="342720"/>
                <a:gridCol w="1168560"/>
                <a:gridCol w="345960"/>
                <a:gridCol w="343080"/>
                <a:gridCol w="342720"/>
                <a:gridCol w="343080"/>
                <a:gridCol w="345960"/>
                <a:gridCol w="342720"/>
                <a:gridCol w="343080"/>
                <a:gridCol w="344520"/>
                <a:gridCol w="344520"/>
                <a:gridCol w="342720"/>
                <a:gridCol w="344520"/>
                <a:gridCol w="343080"/>
                <a:gridCol w="342720"/>
                <a:gridCol w="344520"/>
                <a:gridCol w="344520"/>
                <a:gridCol w="406440"/>
                <a:gridCol w="342720"/>
                <a:gridCol w="344520"/>
                <a:gridCol w="344520"/>
                <a:gridCol w="328680"/>
              </a:tblGrid>
              <a:tr h="88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a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8. Результаты дискриминантного анализ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8000" y="692280"/>
          <a:ext cx="9036000" cy="5943600"/>
        </p:xfrm>
        <a:graphic>
          <a:graphicData uri="http://schemas.openxmlformats.org/drawingml/2006/table">
            <a:tbl>
              <a:tblPr/>
              <a:tblGrid>
                <a:gridCol w="1278000"/>
                <a:gridCol w="2116080"/>
                <a:gridCol w="1193760"/>
                <a:gridCol w="1217520"/>
                <a:gridCol w="1738440"/>
                <a:gridCol w="149220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скриминирующая функ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омер групп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сход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редсказа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кользящий конт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Бинфорд_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927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606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Хил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689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1165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р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51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36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2224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77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тс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.7197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81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еБлан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.6902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221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дме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406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836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Уолл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707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087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юве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0098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08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и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57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350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Лонгак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753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2.509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рт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1777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582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йз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5248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0239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р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8966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.599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ларк_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.7469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.7253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леннер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3.36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5768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енфр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5.10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.445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ит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.8210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1.476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Рау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0.41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-4.318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cc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ис. 6. Расположение авторов в пространстве дискриминирующих функци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Типологический анализ данны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4" descr="img04"/>
          <p:cNvPicPr/>
          <p:nvPr/>
        </p:nvPicPr>
        <p:blipFill>
          <a:blip r:embed="rId1"/>
          <a:stretch/>
        </p:blipFill>
        <p:spPr>
          <a:xfrm>
            <a:off x="684360" y="1628640"/>
            <a:ext cx="755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1. Типы российских археологических издани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www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spsl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nsc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ru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193840"/>
          <a:ext cx="8351640" cy="4114800"/>
        </p:xfrm>
        <a:graphic>
          <a:graphicData uri="http://schemas.openxmlformats.org/drawingml/2006/table">
            <a:tbl>
              <a:tblPr/>
              <a:tblGrid>
                <a:gridCol w="2252520"/>
                <a:gridCol w="1443240"/>
                <a:gridCol w="795240"/>
                <a:gridCol w="1522440"/>
                <a:gridCol w="2338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Тип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Цит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% ци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Академические центральные журнал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6.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4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77.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Серийное Издание Государственного Эрмитаж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.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.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Региональны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3.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3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Тематически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7.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.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Дореволюционные изд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8.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.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57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cc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блица 2. Число ссылок на авторов англоязычной версии журнала «Археология, этнография и антропология Евразии» (на 20.09.201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341360"/>
          <a:ext cx="7417080" cy="4479840"/>
        </p:xfrm>
        <a:graphic>
          <a:graphicData uri="http://schemas.openxmlformats.org/drawingml/2006/table">
            <a:tbl>
              <a:tblPr/>
              <a:tblGrid>
                <a:gridCol w="1730520"/>
                <a:gridCol w="1623960"/>
                <a:gridCol w="1139760"/>
                <a:gridCol w="1185840"/>
                <a:gridCol w="1737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од изд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журн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траниц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 журна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 ссыл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r>
                        <a:rPr b="0" lang="ru-RU" sz="1400" spc="-1" strike="noStrike" u="sng" baseline="30000">
                          <a:solidFill>
                            <a:srgbClr val="ebf25a"/>
                          </a:solidFill>
                          <a:uFillTx/>
                          <a:latin typeface="Calibri"/>
                          <a:ea typeface="Times New Roman"/>
                          <a:hlinkClick r:id="rId1" action="ppaction://hlinksldjump"/>
                        </a:rPr>
                        <a:t>[1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ебер А.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орюнова О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Габу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мирханов Х.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евянко А.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ергачева М.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Манигал 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люсаренко 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466"/>
          <p:cNvSpPr/>
          <p:nvPr/>
        </p:nvSpPr>
        <p:spPr>
          <a:xfrm>
            <a:off x="1576440" y="53946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468"/>
          <p:cNvSpPr/>
          <p:nvPr/>
        </p:nvSpPr>
        <p:spPr>
          <a:xfrm>
            <a:off x="755640" y="576936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bf25a"/>
                </a:solidFill>
                <a:uFillTx/>
                <a:latin typeface="Arial"/>
                <a:ea typeface="Times New Roman"/>
                <a:hlinkClick r:id="rId2" action="ppaction://hlinksldjump"/>
              </a:rPr>
              <a:t>[1]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а работы А.П. Деревянко и его соавторов имеется 139 ссылок в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Web of Knowledge</a:t>
            </a:r>
            <a:r>
              <a:rPr b="0" lang="ru-RU" sz="1400" spc="-1" strike="noStrike">
                <a:solidFill>
                  <a:srgbClr val="ffffcc"/>
                </a:solidFill>
                <a:latin typeface="Arial"/>
                <a:ea typeface="Times New Roman"/>
              </a:rPr>
              <a:t> (20.09.2011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255240"/>
            <a:ext cx="8964720" cy="101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3. Цитирование работ академика А.П. Деревянко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его соавторов по данным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eb of Knowledg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(на 19.09.201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844640"/>
          <a:ext cx="7632720" cy="3780000"/>
        </p:xfrm>
        <a:graphic>
          <a:graphicData uri="http://schemas.openxmlformats.org/drawingml/2006/table">
            <a:tbl>
              <a:tblPr/>
              <a:tblGrid>
                <a:gridCol w="1908360"/>
                <a:gridCol w="1908000"/>
                <a:gridCol w="1908360"/>
                <a:gridCol w="1908000"/>
              </a:tblGrid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Журна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нутренние ссыл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Цит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Current Anthrop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естник Академии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f Human Ev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Доклады 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of Phisical Anthropolog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Paleontological J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tratigraphy and Geological correl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4960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4. Пример подсчета ИЦ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на основе трех публикаций в «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Natur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» (на 19.10.2011 г.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341360"/>
          <a:ext cx="8229600" cy="4765680"/>
        </p:xfrm>
        <a:graphic>
          <a:graphicData uri="http://schemas.openxmlformats.org/drawingml/2006/table">
            <a:tbl>
              <a:tblPr/>
              <a:tblGrid>
                <a:gridCol w="2601720"/>
                <a:gridCol w="655920"/>
                <a:gridCol w="652320"/>
                <a:gridCol w="655560"/>
                <a:gridCol w="655560"/>
                <a:gridCol w="655920"/>
                <a:gridCol w="652320"/>
                <a:gridCol w="17002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ндекс цитир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Neanderthals in Central Asia And Siberia (J.Krause, L. Orlando et al). Source: Nature. 2007. v. 449.Issue 7164. p.902-9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.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The complete mitochondrial DNA genome of an unknown hominin from southern Siberia. (J. Krause, L. Orlando, M. Good Jeffrey et al.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urce: Nature. 2010. v. 464. Issue 7290. p.894-8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Genetic history of an archaic hominin group from Denisova Cave in Siberia. (D.Reich, R.E. Green, M. Kircher et al.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Source: Nature. 2010. v. 468. Issue 7327. p.1053-10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.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1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1. Средние доли цитирования и самоцитирования за 2008-2011 годы и их доверительные интервалы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757080" y="1557360"/>
            <a:ext cx="7560000" cy="4464000"/>
            <a:chOff x="757080" y="1557360"/>
            <a:chExt cx="7560000" cy="446400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757080" y="1557360"/>
              <a:ext cx="756000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val 6"/>
            <p:cNvSpPr/>
            <p:nvPr/>
          </p:nvSpPr>
          <p:spPr>
            <a:xfrm>
              <a:off x="3933720" y="1871640"/>
              <a:ext cx="2747520" cy="29336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044800" y="1765080"/>
              <a:ext cx="5065560" cy="115416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2. Средние доли внешнего цитирован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самоцитирования за 2008-2011 годы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 их доверительные интервалы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468360" y="1609560"/>
            <a:ext cx="8136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ис. 3. Локальная региональная сеть публикаций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ИАЭТ и институтов СО РАН (Гарскова, 2010: с. 16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900000" y="1490760"/>
            <a:ext cx="734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блица 5. Распределение авторов и публикаций иркутской археологической научной школы по временным периодам [Деревянко, Фелингер, Холюшкин, 1989]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960560"/>
          <a:ext cx="8229600" cy="3849840"/>
        </p:xfrm>
        <a:graphic>
          <a:graphicData uri="http://schemas.openxmlformats.org/drawingml/2006/table">
            <a:tbl>
              <a:tblPr/>
              <a:tblGrid>
                <a:gridCol w="480960"/>
                <a:gridCol w="1139760"/>
                <a:gridCol w="673200"/>
                <a:gridCol w="638280"/>
                <a:gridCol w="750960"/>
                <a:gridCol w="726840"/>
                <a:gridCol w="712800"/>
                <a:gridCol w="647640"/>
                <a:gridCol w="1152720"/>
                <a:gridCol w="1306440"/>
              </a:tblGrid>
              <a:tr h="115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Временной пери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Автор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Публикации, соотнесённые к каждому автору и соавтор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Среднее количество публикаций на 1 авто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Коэффициент соавто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21-19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31-19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41-19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51-19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61-19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971-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7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3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1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9T02:50:30Z</dcterms:created>
  <dc:creator>slib</dc:creator>
  <dc:description/>
  <dc:language>en-US</dc:language>
  <cp:lastModifiedBy>sir-9-inna</cp:lastModifiedBy>
  <dcterms:modified xsi:type="dcterms:W3CDTF">2013-07-12T08:45:24Z</dcterms:modified>
  <cp:revision>14</cp:revision>
  <dc:subject/>
  <dc:title>Наукометрический анализ</dc:title>
</cp:coreProperties>
</file>