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685E1-E8BC-4B7F-A065-1CE703D5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814D-AE2E-483C-B2C5-C7A3B0B2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FA5AB-41E9-4C95-89D7-9E08F0F5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6F63-1FB5-4123-8B4B-7E056FA2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F57C-F2FD-4A3B-BBE8-47D9BE84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F93F-ABA8-4C36-B932-A04498C0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8F7F-E9D7-4FB5-808B-40500DF4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6F3C-9574-4C32-B93A-E84240C6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1103-2D96-49A5-8192-21FBF279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980E-C7D0-4F6A-8779-6E5D36DA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DADD-543D-4004-AA96-683DEC23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C70C3-5DA0-4611-A6A1-81873779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66C7-B165-4276-A509-16792F45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3F57-2F17-473B-AEC8-1866C23B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630E-D6A6-482B-A571-F74692BB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9232-1086-4A88-BA62-8C824859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6604-0977-4B01-B7EC-5AB9DE0A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7D9E-242F-43EF-A7D9-5E5B5507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0970-E6AA-45F5-BCAD-BD61AB3E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78038-E2B5-428E-B9CF-87D0B07E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CDBC-7B58-46C5-977A-711463E1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5101-CC5A-456E-B94A-FB560A3F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1F31-2914-44C1-B858-4E77AD03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0824-C5CC-436E-BF5B-9794C46C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1F3C-0202-4430-BEC1-9360B88583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A465-4696-4366-ACA6-A808A8356E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3840" cy="266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блемы науковедения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На примере археолог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Холюшкин Ю.П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ПНТБ СО Р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ис. 4. Группировочный анализ временных периодов Иркутской археологической школы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1 - 1921 - 1920; 2 - 1931 - 1940; 3 - 1941 - 1950;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4 - 1951 - 1960; 5 - 1961 - 1970; 6 - 1971 - 1980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2" name="Object 10"/>
          <p:cNvGraphicFramePr/>
          <p:nvPr/>
        </p:nvGraphicFramePr>
        <p:xfrm>
          <a:off x="539640" y="2158920"/>
          <a:ext cx="7920000" cy="38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58920"/>
                    <a:ext cx="792000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Таблица 6. Оценочное и справочное цитирован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924280"/>
          <a:ext cx="8229600" cy="1081080"/>
        </p:xfrm>
        <a:graphic>
          <a:graphicData uri="http://schemas.openxmlformats.org/drawingml/2006/table">
            <a:tbl>
              <a:tblPr/>
              <a:tblGrid>
                <a:gridCol w="2025720"/>
                <a:gridCol w="2120760"/>
                <a:gridCol w="2121120"/>
                <a:gridCol w="19620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Цитир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октора нау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андидаты нау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ностранные уче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правочн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4,1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3,4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6,6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Оценочн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5,9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6,6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ис.5. Группировка авторов по типам цитирования [Деревянко, Холюшкин, 1994: 30]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Рисунок 33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42160" cy="180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468360" y="3357720"/>
          <a:ext cx="8291520" cy="2781000"/>
        </p:xfrm>
        <a:graphic>
          <a:graphicData uri="http://schemas.openxmlformats.org/drawingml/2006/table">
            <a:tbl>
              <a:tblPr/>
              <a:tblGrid>
                <a:gridCol w="2763720"/>
                <a:gridCol w="2764080"/>
                <a:gridCol w="2763720"/>
              </a:tblGrid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 З.А. Абрам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 М.В.Аникови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. Л.Бинфор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. Ф. Бор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. П.И.Борисков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 М.В.Воевод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. М.Е.Вороне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. В.А.Городц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. В.И. Гром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. Г.П. Григорь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.М.Д. Джураку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. П.П. Ефименк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. С.Н. Замятн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. Г.Ф. Коробк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5. В.Е. Ларич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. Д.Н. Л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. В.П. Люб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8. Г.И. Медвед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. Ю.А. Мочан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. А.П. Окладн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1. В.А. Ран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2. А.Н. Рогач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3. Р.Х. Сулейман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4. Н.Г. Харлам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5. Ю.П. Холюшк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6. В.А. Шум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блица 7. Частота взаимоцитирования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«новых археологов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0920" y="981000"/>
          <a:ext cx="8435880" cy="5654880"/>
        </p:xfrm>
        <a:graphic>
          <a:graphicData uri="http://schemas.openxmlformats.org/drawingml/2006/table">
            <a:tbl>
              <a:tblPr/>
              <a:tblGrid>
                <a:gridCol w="342720"/>
                <a:gridCol w="1168560"/>
                <a:gridCol w="345960"/>
                <a:gridCol w="343080"/>
                <a:gridCol w="342720"/>
                <a:gridCol w="343080"/>
                <a:gridCol w="345960"/>
                <a:gridCol w="342720"/>
                <a:gridCol w="343080"/>
                <a:gridCol w="344520"/>
                <a:gridCol w="344520"/>
                <a:gridCol w="342720"/>
                <a:gridCol w="344520"/>
                <a:gridCol w="343080"/>
                <a:gridCol w="342720"/>
                <a:gridCol w="344520"/>
                <a:gridCol w="344520"/>
                <a:gridCol w="406440"/>
                <a:gridCol w="342720"/>
                <a:gridCol w="344520"/>
                <a:gridCol w="344520"/>
                <a:gridCol w="328680"/>
              </a:tblGrid>
              <a:tr h="88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a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Бинфор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Хил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Фри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ло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Уотсо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еБлан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едме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Уолло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юве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ио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онгак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арти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Айзе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ра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ларк_Д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Фленнер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енфр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ит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ауз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Бинфор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Хил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Фри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ло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Уотсо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еБлан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едме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Уолло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юве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ио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онгак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арти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Айзе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ра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ларк_Д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Фленнер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енфр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ит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ауз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блица 8. Результаты дискриминантного анализ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8000" y="692280"/>
          <a:ext cx="9036000" cy="5943600"/>
        </p:xfrm>
        <a:graphic>
          <a:graphicData uri="http://schemas.openxmlformats.org/drawingml/2006/table">
            <a:tbl>
              <a:tblPr/>
              <a:tblGrid>
                <a:gridCol w="1278000"/>
                <a:gridCol w="2116080"/>
                <a:gridCol w="1193760"/>
                <a:gridCol w="1217520"/>
                <a:gridCol w="1738440"/>
                <a:gridCol w="149220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Авто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искриминирующая функ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Номер групп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Исход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редсказан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кользящий контро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Бинфорд_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1927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2.606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Хил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1689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2.1165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Фр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0051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2.36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2224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2.577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Уотс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7197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.812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еБлан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6902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.221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едме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5406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0.836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Уолл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8707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2.087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юве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0098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2.508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и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.57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0.350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онгак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87539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2.509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арт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17777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.582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Айз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.5248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.0239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р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.8966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599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ларк_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.7469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.7253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Фленнер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3.36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5768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енфр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5.10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.4450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ит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8210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.476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ау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0.41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4.318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Рис. 6. Расположение авторов в пространстве дискриминирующих функци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072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Типологический анализ данны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Picture 4" descr="img04"/>
          <p:cNvPicPr/>
          <p:nvPr/>
        </p:nvPicPr>
        <p:blipFill>
          <a:blip r:embed="rId1"/>
          <a:stretch/>
        </p:blipFill>
        <p:spPr>
          <a:xfrm>
            <a:off x="684360" y="1628640"/>
            <a:ext cx="7559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блица 1. Типы российских археологических изданий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www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ahoma"/>
              </a:rPr>
              <a:t>.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spsl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ahoma"/>
              </a:rPr>
              <a:t>.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nsc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ahoma"/>
              </a:rPr>
              <a:t>.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ru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193840"/>
          <a:ext cx="8351640" cy="4114800"/>
        </p:xfrm>
        <a:graphic>
          <a:graphicData uri="http://schemas.openxmlformats.org/drawingml/2006/table">
            <a:tbl>
              <a:tblPr/>
              <a:tblGrid>
                <a:gridCol w="2252520"/>
                <a:gridCol w="1443240"/>
                <a:gridCol w="795240"/>
                <a:gridCol w="1522440"/>
                <a:gridCol w="2338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Тип из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Цит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% ци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Академические центральные журна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26.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44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77.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Серийное Издание Государственного Эрмитаж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4.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1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2.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Региональные из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43.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3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6.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Тематические из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17.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10.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Дореволюционные из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8.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1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2.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57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2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Таблица 2. Число ссылок на авторов англоязычной версии журнала «Археология, этнография и антропология Евразии» (на 20.09.201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26920" y="1341360"/>
          <a:ext cx="7417080" cy="4479840"/>
        </p:xfrm>
        <a:graphic>
          <a:graphicData uri="http://schemas.openxmlformats.org/drawingml/2006/table">
            <a:tbl>
              <a:tblPr/>
              <a:tblGrid>
                <a:gridCol w="1730520"/>
                <a:gridCol w="1623960"/>
                <a:gridCol w="1139760"/>
                <a:gridCol w="1185840"/>
                <a:gridCol w="1737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Год изд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журна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аниц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 журна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Число ссыл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еревянко А.П.</a:t>
                      </a:r>
                      <a:r>
                        <a:rPr b="0" lang="ru-RU" sz="1400" spc="-1" strike="noStrike" u="sng" baseline="30000">
                          <a:solidFill>
                            <a:srgbClr val="ebf25a"/>
                          </a:solidFill>
                          <a:uFillTx/>
                          <a:latin typeface="Calibri"/>
                          <a:ea typeface="Times New Roman"/>
                          <a:hlinkClick r:id="rId1" action="ppaction://hlinksldjump"/>
                        </a:rPr>
                        <a:t>[1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ебер А.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еревянко А.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Горюнова О.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еревянко А.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еревянко А.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Габу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Амирханов Х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еревянко А.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ергачева М.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анигал 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люсаренко 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466"/>
          <p:cNvSpPr/>
          <p:nvPr/>
        </p:nvSpPr>
        <p:spPr>
          <a:xfrm>
            <a:off x="1576440" y="539460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468"/>
          <p:cNvSpPr/>
          <p:nvPr/>
        </p:nvSpPr>
        <p:spPr>
          <a:xfrm>
            <a:off x="755640" y="5769360"/>
            <a:ext cx="820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bf25a"/>
                </a:solidFill>
                <a:uFillTx/>
                <a:latin typeface="Arial"/>
                <a:ea typeface="Times New Roman"/>
                <a:hlinkClick r:id="rId2" action="ppaction://hlinksldjump"/>
              </a:rPr>
              <a:t>[1]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  <a:ea typeface="Times New Roman"/>
              </a:rPr>
              <a:t>а работы А.П. Деревянко и его соавторов имеется 139 ссылок в 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Times New Roman"/>
              </a:rPr>
              <a:t>Web of Knowledge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  <a:ea typeface="Times New Roman"/>
              </a:rPr>
              <a:t> (20.09.2011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255240"/>
            <a:ext cx="8964720" cy="101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блица 3. Цитирование работ академика А.П. Деревянко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 его соавторов по данным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eb of Knowledg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(на 19.09.2011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9640" y="1844640"/>
          <a:ext cx="7632720" cy="3780000"/>
        </p:xfrm>
        <a:graphic>
          <a:graphicData uri="http://schemas.openxmlformats.org/drawingml/2006/table">
            <a:tbl>
              <a:tblPr/>
              <a:tblGrid>
                <a:gridCol w="1908360"/>
                <a:gridCol w="1908000"/>
                <a:gridCol w="1908360"/>
                <a:gridCol w="1908000"/>
              </a:tblGrid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Журна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ублик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нутренние ссыл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Цитир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Na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urrent Anthropolo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естник Академии Нау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of Human Evolu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клады 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of Phisical Anthropolo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aleontological J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tratigraphy and Geological correl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4960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блица 4. Пример подсчета ИЦ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а основе трех публикаций в «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Natur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» (на 19.10.2011 г.)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341360"/>
          <a:ext cx="8229600" cy="4765680"/>
        </p:xfrm>
        <a:graphic>
          <a:graphicData uri="http://schemas.openxmlformats.org/drawingml/2006/table">
            <a:tbl>
              <a:tblPr/>
              <a:tblGrid>
                <a:gridCol w="2601720"/>
                <a:gridCol w="655920"/>
                <a:gridCol w="652320"/>
                <a:gridCol w="655560"/>
                <a:gridCol w="655560"/>
                <a:gridCol w="655920"/>
                <a:gridCol w="652320"/>
                <a:gridCol w="17002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Индекс цитир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Neanderthals in Central Asia And Siberia (J.Krause, L. Orlando et al). Source: Nature. 2007. v. 449.Issue 7164. p.902-9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.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he complete mitochondrial DNA genome of an unknown hominin from southern Siberia. (J. Krause, L. Orlando, M. Good Jeffrey et al.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ource: Nature. 2010. v. 464. Issue 7290. p.894-8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.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Genetic history of an archaic hominin group from Denisova Cave in Siberia. (D.Reich, R.E. Green, M. Kircher et al.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ource: Nature. 2010. v. 468. Issue 7327. p.1053-10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.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1.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ис. 1. Средние доли цитирования и самоцитирования за 2008-2011 годы и их доверительные интервалы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757080" y="1557360"/>
            <a:ext cx="7560000" cy="4464000"/>
            <a:chOff x="757080" y="1557360"/>
            <a:chExt cx="7560000" cy="4464000"/>
          </a:xfrm>
        </p:grpSpPr>
        <p:pic>
          <p:nvPicPr>
            <p:cNvPr id="140" name="Picture 5" descr=""/>
            <p:cNvPicPr/>
            <p:nvPr/>
          </p:nvPicPr>
          <p:blipFill>
            <a:blip r:embed="rId1"/>
            <a:stretch/>
          </p:blipFill>
          <p:spPr>
            <a:xfrm>
              <a:off x="757080" y="1557360"/>
              <a:ext cx="7560000" cy="44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Oval 6"/>
            <p:cNvSpPr/>
            <p:nvPr/>
          </p:nvSpPr>
          <p:spPr>
            <a:xfrm>
              <a:off x="3933720" y="1871640"/>
              <a:ext cx="2747520" cy="29336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2044800" y="1765080"/>
              <a:ext cx="5065560" cy="115416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ис. 2. Средние доли внешнего цитирования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 самоцитирования за 2008-2011 годы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 их доверительные интервалы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468360" y="1609560"/>
            <a:ext cx="81360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ис. 3. Локальная региональная сеть публикаций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АЭТ и институтов СО РАН (Гарскова, 2010: с. 160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1"/>
          <a:stretch/>
        </p:blipFill>
        <p:spPr>
          <a:xfrm>
            <a:off x="900000" y="1490760"/>
            <a:ext cx="7344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800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блица 5. Распределение авторов и публикаций иркутской археологической научной школы по временным периодам [Деревянко, Фелингер, Холюшкин, 1989]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960560"/>
          <a:ext cx="8229600" cy="3849840"/>
        </p:xfrm>
        <a:graphic>
          <a:graphicData uri="http://schemas.openxmlformats.org/drawingml/2006/table">
            <a:tbl>
              <a:tblPr/>
              <a:tblGrid>
                <a:gridCol w="480960"/>
                <a:gridCol w="1139760"/>
                <a:gridCol w="673200"/>
                <a:gridCol w="638280"/>
                <a:gridCol w="750960"/>
                <a:gridCol w="726840"/>
                <a:gridCol w="712800"/>
                <a:gridCol w="647640"/>
                <a:gridCol w="1152720"/>
                <a:gridCol w="1306440"/>
              </a:tblGrid>
              <a:tr h="1159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ременной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Авто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ублик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убликации, соотнесённые к каждому автору и соавтор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реднее количество публикаций на 1 авт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оэффициент соавтор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21-19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4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,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31-19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41-19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51-19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61-19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71-19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8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,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9T02:50:30Z</dcterms:created>
  <dc:creator>slib</dc:creator>
  <dc:description/>
  <dc:language>en-US</dc:language>
  <cp:lastModifiedBy>sir-9-inna</cp:lastModifiedBy>
  <dcterms:modified xsi:type="dcterms:W3CDTF">2013-07-12T08:45:24Z</dcterms:modified>
  <cp:revision>14</cp:revision>
  <dc:subject/>
  <dc:title>Наукометрический анализ</dc:title>
</cp:coreProperties>
</file>