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79EC3-4F5E-4ED7-90C1-DD4B4F3623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2076C-26A5-4671-BE99-D7A17094B2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B76B8-2C85-4897-9079-6ED7660A70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624BF-4540-4592-802F-C8B523A55A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846FB-DABB-486F-AA55-2F110F4372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6A7E3-A4FD-4CC6-ADC9-74A2A4DA76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8D5B5-6F7F-4A48-B7F4-F4731DEDB6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48DDA-15E6-4CFB-850A-B6187B73DA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2DBF3-1A7E-470E-86FF-57ED7F1315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432EC-6273-4EC5-AD42-9CDC749A68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C63F4-B108-4384-98D8-46833581A6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13562-F0C9-44D1-957F-6F3F5B81A5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9B2A9-A1BF-420B-A627-5A33F860A2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B721A-F584-4117-9CC5-E31C31C897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5C133-A2A5-495E-A04F-9DA02ACCD0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C5AD7-4FC2-491A-9B76-350936E7F7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E82AF-A13E-46A2-A5BB-A43080E08D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77627-D5C6-4C12-A360-260397F7FF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48CCD-B9D7-442F-A7F3-4031DD4289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79BF8-8DD2-4D0B-97AF-EED58BDBA5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B9C-F7DD-47A3-B214-0C8BC7C5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8772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C9F-31F0-47A1-A11D-80090614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23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543-AE7B-4A39-A0E2-62CCABCE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04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196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04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196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8AD-E4B6-42FD-A0FF-269F13B6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316B-DCB0-47DB-9233-8AA9F86A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89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112C-79DA-462C-9F62-6320E515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8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BE9E-9700-4A91-86DB-A34F9DC0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4690-C3A6-49ED-B645-E2AE45E0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AEA7-71A6-4AFC-BD02-4CCCF477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896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2BF9-1AEC-46AB-89CD-818A3D46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0C3F-0BA7-4347-9DBD-A0897F61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89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6A5-F614-4A6B-848E-DE29DC95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23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5AAD-F116-44E1-8D79-41BBDF56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635C-2D42-4FC7-91EF-EE23E09B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8772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557D-F86C-46B8-92E5-540524B0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23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3714-8C15-43C5-9448-09D17D1C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04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196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04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196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378B-8637-43A4-8B54-A397654E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8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C32-F284-417D-9634-F9427280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DD6-89ED-4495-836D-1BFD24AE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E59-A60C-4FFF-8E30-745B207B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896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732-22F3-45F7-9E96-DCEC2DA7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A16-38E2-4EA1-A80C-5E432425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23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E75-70F0-4B0C-AFBE-6A4F28BB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224-27E4-4BC3-A9DD-80760DA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8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09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593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4EAD72-4282-4DCA-806C-B5C1B9D9C85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68120" y="228600"/>
            <a:ext cx="8817120" cy="6089760"/>
            <a:chOff x="168120" y="228600"/>
            <a:chExt cx="8817120" cy="6089760"/>
          </a:xfrm>
        </p:grpSpPr>
        <p:sp>
          <p:nvSpPr>
            <p:cNvPr id="6" name="AutoShape 7"/>
            <p:cNvSpPr/>
            <p:nvPr/>
          </p:nvSpPr>
          <p:spPr>
            <a:xfrm>
              <a:off x="168120" y="228600"/>
              <a:ext cx="8817120" cy="6089760"/>
            </a:xfrm>
            <a:prstGeom prst="roundRect">
              <a:avLst>
                <a:gd name="adj" fmla="val 11046"/>
              </a:avLst>
            </a:prstGeom>
            <a:noFill/>
            <a:ln cap="sq"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762120" y="1709640"/>
              <a:ext cx="7689600" cy="0"/>
            </a:xfrm>
            <a:prstGeom prst="line">
              <a:avLst/>
            </a:prstGeom>
            <a:ln cap="sq"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6592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09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593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F328FF-E456-4E44-A8D8-71A9FB3B73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Сетевые информационные  ресурсы – 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БД «NormaCS», БД «НИР и ОКР»: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использование в 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Сибирском отделении РАН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митриева Любовь Арсентьевна, н.с., зав.сектором патентной документации Отделения ГПНТБ СО РАН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аучно-практический семинар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«Новые электронные технологии в информационном обслуживании ученых и специалист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ибирского отделения РАН»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1-5 июля 2013 год, Красноярск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39760"/>
            <a:ext cx="76960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Организационная форма сетевого обслуживания </a:t>
            </a:r>
            <a:br>
              <a:rPr sz="24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 удаленных пользователей через регистрацию IP-адрес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зволяет обеспечить контроль входного потока запросов только для сотрудников СО РАН в соответствии с условиями лицензи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овать учет статистики и анализ эффективности использования сетевых доступ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55600"/>
            <a:ext cx="769608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Организационная структура системы сетевого обслуживания ГПНТБ СО РАН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ые клиенты – НИИ СО 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ор системы – лаборатория развития электронных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ультационная поддержка – специализированные патентные подраз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ая поддержка – О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петчерская служба – М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истема сетевого обслуживания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929640" cy="489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Анализ эффективности использования сетевых доступов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973240"/>
          <a:ext cx="8281800" cy="2940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8880"/>
                <a:gridCol w="1655640"/>
                <a:gridCol w="1655640"/>
              </a:tblGrid>
              <a:tr h="70200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запро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тказ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кол-ва запро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,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,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04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8"/>
          <p:cNvSpPr/>
          <p:nvPr/>
        </p:nvSpPr>
        <p:spPr>
          <a:xfrm>
            <a:off x="755640" y="1989000"/>
            <a:ext cx="7559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намика использования сетевых доступов БД «Норма CS» в 2010-20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6914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татистика доступа клиентов </a:t>
            </a:r>
            <a:br>
              <a:rPr sz="2800"/>
            </a:b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БД «Норма» за 2010 — 2012 годы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8" name="Object 2"/>
          <p:cNvGraphicFramePr/>
          <p:nvPr/>
        </p:nvGraphicFramePr>
        <p:xfrm>
          <a:off x="2448000" y="1905120"/>
          <a:ext cx="4176720" cy="40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1905120"/>
                    <a:ext cx="41767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720720" y="533520"/>
            <a:ext cx="7775640" cy="5362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4248000" y="1295280"/>
            <a:ext cx="72072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БД «Отчеты НИР и ОКР»</a:t>
            </a:r>
            <a:br>
              <a:rPr sz="32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3560" y="1782360"/>
            <a:ext cx="76964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Р «Отчеты НИР и ОКР» разработана на основе информационного бюллетеня НИР и ОК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ы и разработчики - ФГАНУ «Центр информационных технологий и систем органов исполнительной власти» (ФГАНУ ЦИТ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8 тематических серий, изд. в 3 част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юллетень регистрации НИР и О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борник рефератов НИР и О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горитмы и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2004 года – на бумажном носите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8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2005 года – на электронном носите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9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5-2006 гг. – диске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0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7-2012 гг. – 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Р не имеет программного обеспечения, что затрудняет поиск информации в пределах нескольки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2012 году адаптирована ГПНТБ СО РАН под СУБД ИРБИС (без нарушения авторских прав ст.1270 п. 9 ГК Р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ое разрешение от разработчиков на использование БД для сетевого обслуживания ННЦ СО Р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2120" y="1905120"/>
          <a:ext cx="7691400" cy="4181400"/>
        </p:xfrm>
        <a:graphic>
          <a:graphicData uri="http://schemas.openxmlformats.org/drawingml/2006/table">
            <a:tbl>
              <a:tblPr/>
              <a:tblGrid>
                <a:gridCol w="1197000"/>
                <a:gridCol w="1293840"/>
                <a:gridCol w="1295280"/>
                <a:gridCol w="1295280"/>
                <a:gridCol w="1295640"/>
                <a:gridCol w="1314360"/>
              </a:tblGrid>
              <a:tr h="57564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И ННЦ СО РАН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734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 и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48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734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Ф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34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7448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ЯФ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34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О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734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898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6914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Статистики запросов </a:t>
            </a:r>
            <a:br>
              <a:rPr sz="24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 БД «Отчеты НИР и ОКР» за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I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 п/г. 2013 г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Выводы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1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жительная динамика и опыт работы с сетевыми информационными ресурсами способствовали разработке функциональной модели сетевого информационного обслуживания, в которой определены технологическая последовательность операций, права и обязанности всех участников информационного процесса. Она позволяет встраивать в систему информационного обслуживания не только новые сетевые ресурсы, но  коммерческие ресурсы с удаленным ограниченным доступом через электронную доставку документов. Так, в 2013 году в сетевую систему встроена сервисная услуга по электронной доставке полных текстов российских и зарубежных патентов из БД «Патенты России» и мультинациональной патентной БД QP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11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дрение в практику сетевого информационного обслуживания позволило решить задач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тивного доступа научных сотрудников к актуальным информационным ресурсам и экономии финансовых средств на приобретение этих ресурсов для каждого НИИ СО Р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74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Наши координаты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ре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адемгородо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пект академика Лаврентьева 6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ение ГПНТБ СО РА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/з патентной документации и нормативной документации (ком. 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лефон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-61-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E-m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d@prometeus.ns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нтактное лиц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Дмитриева Любовь Арсент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История вопроса</a:t>
            </a:r>
            <a:br>
              <a:rPr sz="32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1994-2012 гг. в нашей библиотеке сформирован интегрированный универсальный патентный фонд, который включает печатные патентные издания и электронную патентую библиотеку на CD и DVD со стационарным информационным обслуживанием на автоматизированном рабочем месте  чит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 системы стационарного обслуживания – физическое присутствие пользователя в библиотеке, что требует затраты времени и ограничивает комфортность работ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5480" y="479160"/>
            <a:ext cx="7696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Информационные ресурсы для научно-исследовательской и прикладной работы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опроса научных сотрудников 11 НИИ ННЦ СО Р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або информированы о библиотечных    фонд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почитают работать со своего ПК с интернет-ресурс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тели бы, чтобы электронные ресурсы библиотек были встроены в их виртуальную сред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Актуальность проекта</a:t>
            </a:r>
            <a:br>
              <a:rPr sz="32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нновационной деятельности и активизация прикладных научных исследований в НИИ СО 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спроса на патентную и нормативно-техническую информацию при проведении НИР и О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Цель проекта</a:t>
            </a:r>
            <a:br>
              <a:rPr sz="32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системы информационного обслуживания с оперативным доступом к сетевым электронным ресурсам на рабочих местах научных сотрудников НИИ СО Р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Критерии выбора сетевых информационных ресурсов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туальность и востребованность для НИОК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сутствие в свободном доступе Интерн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1680"/>
            <a:ext cx="76960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етевые электронные ресурсы —</a:t>
            </a:r>
            <a:br>
              <a:rPr sz="2800"/>
            </a:b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БД «NormaCS»</a:t>
            </a:r>
            <a:br>
              <a:rPr sz="2800"/>
            </a:b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и БД «Отчеты НИР и ОКР»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62120" y="2037960"/>
            <a:ext cx="769608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905120"/>
          <a:ext cx="7699320" cy="3978000"/>
        </p:xfrm>
        <a:graphic>
          <a:graphicData uri="http://schemas.openxmlformats.org/drawingml/2006/table">
            <a:tbl>
              <a:tblPr/>
              <a:tblGrid>
                <a:gridCol w="1458720"/>
                <a:gridCol w="1316160"/>
                <a:gridCol w="1465200"/>
                <a:gridCol w="1096920"/>
                <a:gridCol w="1255680"/>
                <a:gridCol w="1106640"/>
              </a:tblGrid>
              <a:tr h="1031760"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тевые Э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чи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ввода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ы ННЦ СО РАН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НЦ СО РАН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1325520">
                <a:tc>
                  <a:txBody>
                    <a:bodyPr lIns="90000" rIns="90000" tIns="14976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Д «Norma CS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О «Нанософт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Москва)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тыс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1620720">
                <a:tc>
                  <a:txBody>
                    <a:bodyPr lIns="90000" rIns="90000" tIns="14976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Д «Отчеты НИР и ОКР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АНУ «ЦИТиС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Москва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-2008 гг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0 тыс. руб.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г.- наст.вр.-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Э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Актуальность и востребованность сетевых ресурсов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3840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я об отчетах НИР и ОКР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ктуаль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 прогнозировании, перспективном и текущем планировании научных исследова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рмативно-техническая информаци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ктуаль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боре направлений исследований для создания новых и модернизации существующих объектов техн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развитием инновационной деятельности в НИИ СО РАН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остребован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этой информации возросла, а традиционные бумажные фонды библиотек и Интернет-ресурсы не удовлетворяют информационные потребности научных сотруд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Критерии оценки сетевых ресурсов</a:t>
            </a:r>
            <a:br>
              <a:rPr sz="2800"/>
            </a:b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Информационные и поисковые  возмож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Достоверность – сертификация и обновляем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Функциональные возможности  копирования – распечатка и выгрузка докум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Доступность для внешних пользователей через сетевой выход на внешние пор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Наличие функции учета статист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3:34:39Z</dcterms:created>
  <dc:creator>lad</dc:creator>
  <dc:description/>
  <dc:language>en-US</dc:language>
  <cp:lastModifiedBy>nataly</cp:lastModifiedBy>
  <dcterms:modified xsi:type="dcterms:W3CDTF">2013-09-25T08:12:09Z</dcterms:modified>
  <cp:revision>16</cp:revision>
  <dc:subject/>
  <dc:title>Создание системы сетевого информационного обслуживания  в НИИ СО РАН </dc:title>
</cp:coreProperties>
</file>