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37526-98DF-488D-9118-B70A663B07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CAD00-9186-44CA-98DA-5E1D8506BE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4FFFE-83ED-4F4C-99B0-B1954D4D56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0F4DF-D24D-4061-B41A-2377C1D5F9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7E277-A712-4854-9BC7-6BD1CAED03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062000" y="4349880"/>
            <a:ext cx="474048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AD603-D5DA-4012-B9A8-F2C5F8198A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BCB32-69C3-4462-A90A-C52C9BF25F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5D4AE-6569-4CCF-AD39-DE511D8FE9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75CEF-23BF-42A5-A5F2-1D6C9C41A2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FAA5C-4397-45E0-9FF3-EC055320D8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CB3EB-646B-49AD-B20B-23A86A211F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911E1-4CC5-48A9-889B-F9D6586DF4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5FAE8-8971-431E-BD3D-B7CDF2C311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B9CFF-01BB-4590-8B06-F20BE53F30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437D7-B92E-4364-AA45-A0DA889201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054EB-A758-4F33-BF75-676BAA82A0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5FEE7-27FE-414F-A7D2-8D272FFC1A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B324A-8654-40F5-9304-766D1A5D68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E222E-A29D-4E9E-BD8E-FF017F6A11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9CD05-4B77-4FD1-8A45-31ED7BEC7E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35A-836B-447D-BBF1-343A04B3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8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987720"/>
            <a:ext cx="768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6FC-26C8-496D-9B50-0750823C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98772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2320" y="398772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9E2-FA56-49E4-BCF1-0933B35F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040" y="190476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1960" y="190476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98772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040" y="398772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1960" y="398772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23D-184E-41A0-B140-D9C59EFC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B2F9-6D19-4F90-9B50-5936A723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896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BF53-5B38-405B-B5A7-212DA09D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8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C264-7B7E-4F39-9580-26B5F974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50EF-53F9-4422-AB89-B45B4619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A284-F5FB-429A-8F3A-64F0F36C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896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D712-D1EF-48AF-B084-526126D2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8772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FBE1-97F4-4921-BD79-ED2FEE7B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896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035-3075-45EF-AE6A-F9CA8919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2320" y="398772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03BB-FD66-44A7-BD5D-22E13476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87720"/>
            <a:ext cx="768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7F41-872B-4FDA-9C10-F072B976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8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3987720"/>
            <a:ext cx="768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529F-5BCE-4A35-848B-AAA6440C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398772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2320" y="398772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7E9E-C8B0-409F-8F41-45354766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040" y="190476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1960" y="190476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398772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040" y="398772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1960" y="3987720"/>
            <a:ext cx="2475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4C4E-0D08-4AB9-9571-FB578D8E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8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ECF-7936-4FBB-85BE-A8813D27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B2A-3462-4BF3-9863-4EDED0AD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5FC-1792-4499-93B0-7F32B19C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896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CF8-02F0-475C-8D74-DBFA7ADA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98772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01F-E689-461C-8232-AA362B69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2320" y="398772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052-62F0-4BD0-9B1A-BABC0AA4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2320" y="1904760"/>
            <a:ext cx="37522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987720"/>
            <a:ext cx="768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18E-CC5F-4151-83A3-B7BD513D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8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8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09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593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A68CCC-FFFB-4A4F-B484-4404DD33561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68120" y="228600"/>
            <a:ext cx="8817120" cy="6089760"/>
            <a:chOff x="168120" y="228600"/>
            <a:chExt cx="8817120" cy="6089760"/>
          </a:xfrm>
        </p:grpSpPr>
        <p:sp>
          <p:nvSpPr>
            <p:cNvPr id="6" name="AutoShape 7"/>
            <p:cNvSpPr/>
            <p:nvPr/>
          </p:nvSpPr>
          <p:spPr>
            <a:xfrm>
              <a:off x="168120" y="228600"/>
              <a:ext cx="8817120" cy="6089760"/>
            </a:xfrm>
            <a:prstGeom prst="roundRect">
              <a:avLst>
                <a:gd name="adj" fmla="val 11046"/>
              </a:avLst>
            </a:prstGeom>
            <a:noFill/>
            <a:ln cap="sq"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Line 8"/>
            <p:cNvSpPr/>
            <p:nvPr/>
          </p:nvSpPr>
          <p:spPr>
            <a:xfrm>
              <a:off x="762120" y="1709640"/>
              <a:ext cx="7689600" cy="0"/>
            </a:xfrm>
            <a:prstGeom prst="line">
              <a:avLst/>
            </a:prstGeom>
            <a:ln cap="sq"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6592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09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5937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319277-12FD-47CE-80F8-44DD5A2260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 Black"/>
              </a:rPr>
              <a:t>Сетевые информационные  ресурсы – 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 Black"/>
              </a:rPr>
              <a:t>БД «NormaCS», БД «НИР и ОКР»: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 Black"/>
              </a:rPr>
              <a:t>использование в 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 Black"/>
              </a:rPr>
              <a:t>Сибирском отделении РАН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Дмитриева Любовь Арсентьевна, н.с., зав.сектором патентной документации Отделения ГПНТБ СО РАН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аучно-практический семинар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«Новые электронные технологии в информационном обслуживании ученых и специалисто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ибирского отделения РАН»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1-5 июля 2013 год, Красноярск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39760"/>
            <a:ext cx="76960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Организационная форма сетевого обслуживания </a:t>
            </a:r>
            <a:br>
              <a:rPr sz="24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 удаленных пользователей через регистрацию IP-адрес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зволяет обеспечить контроль входного потока запросов только для сотрудников СО РАН в соответствии с условиями лицензи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овать учет статистики и анализ эффективности использования сетевых доступ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255600"/>
            <a:ext cx="769608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Организационная структура системы сетевого обслуживания ГПНТБ СО РАН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ые клиенты – НИИ СО 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ор системы – лаборатория развития электронных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ультационная поддержка – специализированные патентные подраз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ая поддержка – О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петчерская служба – М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7808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истема сетевого обслуживания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929640" cy="489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Анализ эффективности использования сетевых доступов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2973240"/>
          <a:ext cx="8281800" cy="2940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8880"/>
                <a:gridCol w="1655640"/>
                <a:gridCol w="1655640"/>
              </a:tblGrid>
              <a:tr h="70200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запро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отказ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кол-ва запро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,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,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1,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,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5804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8"/>
          <p:cNvSpPr/>
          <p:nvPr/>
        </p:nvSpPr>
        <p:spPr>
          <a:xfrm>
            <a:off x="755640" y="1989000"/>
            <a:ext cx="7559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намика использования сетевых доступов БД «Норма CS» в 2010-20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6914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татистика доступа клиентов </a:t>
            </a:r>
            <a:br>
              <a:rPr sz="2800"/>
            </a:b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БД «Норма» за 2010 — 2012 годы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28" name="Object 2"/>
          <p:cNvGraphicFramePr/>
          <p:nvPr/>
        </p:nvGraphicFramePr>
        <p:xfrm>
          <a:off x="2448000" y="1905120"/>
          <a:ext cx="4176720" cy="40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8000" y="1905120"/>
                    <a:ext cx="417672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720720" y="533520"/>
            <a:ext cx="7775640" cy="53625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4248000" y="1295280"/>
            <a:ext cx="72072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БД «Отчеты НИР и ОКР»</a:t>
            </a:r>
            <a:br>
              <a:rPr sz="32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53560" y="1782360"/>
            <a:ext cx="769644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Р «Отчеты НИР и ОКР» разработана на основе информационного бюллетеня НИР и ОК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ы и разработчики - ФГАНУ «Центр информационных технологий и систем органов исполнительной власти» (ФГАНУ ЦИТи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8 тематических серий, изд. в 3 частя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юллетень регистрации НИР и ОК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борник рефератов НИР и ОК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горитмы и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2004 года – на бумажном носите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8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2005 года – на электронном носите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9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05-2006 гг. – диске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0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07-2012 гг. – 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Р не имеет программного обеспечения, что затрудняет поиск информации в пределах нескольких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2012 году адаптирована ГПНТБ СО РАН под СУБД ИРБИС (без нарушения авторских прав ст.1270 п. 9 ГК РФ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фициальное разрешение от разработчиков на использование БД для сетевого обслуживания ННЦ СО Р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762120" y="1905120"/>
          <a:ext cx="7691400" cy="4181400"/>
        </p:xfrm>
        <a:graphic>
          <a:graphicData uri="http://schemas.openxmlformats.org/drawingml/2006/table">
            <a:tbl>
              <a:tblPr/>
              <a:tblGrid>
                <a:gridCol w="1197000"/>
                <a:gridCol w="1293840"/>
                <a:gridCol w="1295280"/>
                <a:gridCol w="1295280"/>
                <a:gridCol w="1295640"/>
                <a:gridCol w="1314360"/>
              </a:tblGrid>
              <a:tr h="57564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И ННЦ СО РАН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7340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 и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48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7340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Ф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340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7448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ЯФ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340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ОХ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7340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С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8980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6914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Статистики запросов </a:t>
            </a:r>
            <a:br>
              <a:rPr sz="2400"/>
            </a:b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 БД «Отчеты НИР и ОКР» за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I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 п/г. 2013 г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Выводы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11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жительная динамика и опыт работы с сетевыми информационными ресурсами способствовали разработке функциональной модели сетевого информационного обслуживания, в которой определены технологическая последовательность операций, права и обязанности всех участников информационного процесса. Она позволяет встраивать в систему информационного обслуживания не только новые сетевые ресурсы, но  коммерческие ресурсы с удаленным ограниченным доступом через электронную доставку документов. Так, в 2013 году в сетевую систему встроена сервисная услуга по электронной доставке полных текстов российских и зарубежных патентов из БД «Патенты России» и мультинациональной патентной БД QP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11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дрение в практику сетевого информационного обслуживания позволило решить задачу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еративного доступа научных сотрудников к актуальным информационным ресурсам и экономии финансовых средств на приобретение этих ресурсов для каждого НИИ СО Р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74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Наши координаты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ре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адемгородо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пект академика Лаврентьева 6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ение ГПНТБ СО РАН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/з патентной документации и нормативной документации (ком. 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лефон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-61-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E-m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d@prometeus.ns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нтактное лиц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Дмитриева Любовь Арсент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История вопроса</a:t>
            </a:r>
            <a:br>
              <a:rPr sz="32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иод 1994-2012 гг. в нашей библиотеке сформирован интегрированный универсальный патентный фонд, который включает печатные патентные издания и электронную патентую библиотеку на CD и DVD со стационарным информационным обслуживанием на автоматизированном рабочем месте  чит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к системы стационарного обслуживания – физическое присутствие пользователя в библиотеке, что требует затраты времени и ограничивает комфортность работы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5480" y="479160"/>
            <a:ext cx="7696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Информационные ресурсы для научно-исследовательской и прикладной работы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опроса научных сотрудников 11 НИИ ННЦ СО Р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34308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або информированы о библиотечных    фонд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34308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почитают работать со своего ПК с интернет-ресурс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34308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отели бы, чтобы электронные ресурсы библиотек были встроены в их виртуальную сред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Актуальность проекта</a:t>
            </a:r>
            <a:br>
              <a:rPr sz="32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нновационной деятельности и активизация прикладных научных исследований в НИИ СО 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ие спроса на патентную и нормативно-техническую информацию при проведении НИР и ОК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Цель проекта</a:t>
            </a:r>
            <a:br>
              <a:rPr sz="32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системы информационного обслуживания с оперативным доступом к сетевым электронным ресурсам на рабочих местах научных сотрудников НИИ СО Р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Критерии выбора сетевых информационных ресурсов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ктуальность и востребованность для НИОК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сутствие в свободном доступе Интерн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1680"/>
            <a:ext cx="769608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етевые электронные ресурсы —</a:t>
            </a:r>
            <a:br>
              <a:rPr sz="2800"/>
            </a:b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БД «NormaCS»</a:t>
            </a:r>
            <a:br>
              <a:rPr sz="2800"/>
            </a:b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и БД «Отчеты НИР и ОКР» 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62120" y="2037960"/>
            <a:ext cx="7696080" cy="39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905120"/>
          <a:ext cx="7699320" cy="3978000"/>
        </p:xfrm>
        <a:graphic>
          <a:graphicData uri="http://schemas.openxmlformats.org/drawingml/2006/table">
            <a:tbl>
              <a:tblPr/>
              <a:tblGrid>
                <a:gridCol w="1458720"/>
                <a:gridCol w="1316160"/>
                <a:gridCol w="1465200"/>
                <a:gridCol w="1096920"/>
                <a:gridCol w="1255680"/>
                <a:gridCol w="1106640"/>
              </a:tblGrid>
              <a:tr h="1031760"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тевые Э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чи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ввода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ы ННЦ СО РАН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ы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НЦ СО РАН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1325520">
                <a:tc>
                  <a:txBody>
                    <a:bodyPr lIns="90000" rIns="90000" tIns="14976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Д «Norma CS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О «Нанософт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Москва)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тыс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1620720">
                <a:tc>
                  <a:txBody>
                    <a:bodyPr lIns="90000" rIns="90000" tIns="14976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Д «Отчеты НИР и ОКР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ГАНУ «ЦИТиС»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г. Москва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-2008 гг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0 тыс. руб.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г.- наст.вр.-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Э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14976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Актуальность и востребованность сетевых ресурсов 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38400"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формация об отчетах НИР и ОКР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ктуальн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и прогнозировании, перспективном и текущем планировании научных исследова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рмативно-техническая информаци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ктуаль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боре направлений исследований для создания новых и модернизации существующих объектов техни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развитием инновационной деятельности в НИИ СО РАН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востребован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этой информации возросла, а традиционные бумажные фонды библиотек и Интернет-ресурсы не удовлетворяют информационные потребности научных сотруд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Критерии оценки сетевых ресурсов</a:t>
            </a:r>
            <a:br>
              <a:rPr sz="2800"/>
            </a:b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Информационные и поисковые  возмож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Достоверность – сертификация и обновляем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Функциональные возможности  копирования – распечатка и выгрузка докумен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Доступность для внешних пользователей через сетевой выход на внешние пор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Наличие функции учета статист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3:34:39Z</dcterms:created>
  <dc:creator>lad</dc:creator>
  <dc:description/>
  <dc:language>en-US</dc:language>
  <cp:lastModifiedBy>nataly</cp:lastModifiedBy>
  <dcterms:modified xsi:type="dcterms:W3CDTF">2013-09-25T08:12:09Z</dcterms:modified>
  <cp:revision>16</cp:revision>
  <dc:subject/>
  <dc:title>Создание системы сетевого информационного обслуживания  в НИИ СО РАН </dc:title>
</cp:coreProperties>
</file>